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FDF5-1AB0-465F-8106-F835F4C3FC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F30-4252-4A4E-B5D0-8DE517C1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60A-68BA-460C-8833-F9E7FB2A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EC0-8C5A-46B9-A123-83A5A8EF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3F19-CF77-4044-B5A1-D57AB32D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49B-C850-4D78-81B9-506A0839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F09-A527-4073-B461-400877A9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6529-0630-4B82-A471-4AAF174D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61E5-137D-4847-8160-0B3240A8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65BF-7D1B-4E46-AEE3-0220A405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B4E-3CA0-41B2-848F-3EC5D1BA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43E-E325-41A3-84DC-4206AB92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691-DC8B-4BDD-BCD8-813F3E99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4554-A57C-4E7A-8B50-C337F66AE6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decookery.com/clipart/people/peop01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decookery.com/clipart/people/peop019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decookery.com/clipart/people/peop019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decookery.com/clipart/people/peop019.jpg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godecookery.com/clipart/people/peop019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godecookery.com/clipart/people/peop019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decookery.com/clipart/people/peop019.jpg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ncl.ac.uk/sparcle/images/English%2520flag.gif&amp;imgrefurl=http://www.ncl.ac.uk/sparcle/Denmark/Home%2520page.htm&amp;h=299&amp;w=495&amp;sz=3&amp;tbnid=aRltpwpLZmNrlM:&amp;tbnh=76&amp;tbnw=127&amp;hl=en&amp;start=11&amp;prev=/images%3Fq%3Denglish%2Bflag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imgres?imgurl=http://pilot.intrinsix.net/why/jpgs/strong-arm.jpg&amp;imgrefurl=http://pilot.intrinsix.net/why/index.shtml&amp;h=150&amp;w=145&amp;sz=9&amp;tbnid=-e97cVRaemevoM:&amp;tbnh=90&amp;tbnw=87&amp;hl=en&amp;start=1&amp;prev=/images%3Fq%3Dstrong%2Barm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gland in 1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uld William of Normandy at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1413000"/>
            <a:ext cx="424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ward the Confessor wa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had trouble keeping control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148360" y="126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King"/>
          <p:cNvPicPr/>
          <p:nvPr/>
        </p:nvPicPr>
        <p:blipFill>
          <a:blip r:embed="rId1"/>
          <a:stretch/>
        </p:blipFill>
        <p:spPr>
          <a:xfrm>
            <a:off x="5219640" y="2205000"/>
            <a:ext cx="2400480" cy="41054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0"/>
          <p:cNvSpPr/>
          <p:nvPr/>
        </p:nvSpPr>
        <p:spPr>
          <a:xfrm>
            <a:off x="5508720" y="404640"/>
            <a:ext cx="3166920" cy="1872000"/>
          </a:xfrm>
          <a:prstGeom prst="wedgeEllipseCallout">
            <a:avLst>
              <a:gd name="adj1" fmla="val -4037"/>
              <a:gd name="adj2" fmla="val 81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940360" y="765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LP!  Nobody will do as I 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Fortress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3384720"/>
          </a:xfrm>
          <a:prstGeom prst="rect">
            <a:avLst/>
          </a:prstGeom>
          <a:ln w="0">
            <a:noFill/>
          </a:ln>
        </p:spPr>
      </p:pic>
      <p:sp>
        <p:nvSpPr>
          <p:cNvPr id="58" name="Line 6"/>
          <p:cNvSpPr/>
          <p:nvPr/>
        </p:nvSpPr>
        <p:spPr>
          <a:xfrm>
            <a:off x="395280" y="1341360"/>
            <a:ext cx="4248000" cy="417528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79280" y="1341360"/>
            <a:ext cx="4464000" cy="431964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64000" y="1197000"/>
            <a:ext cx="309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England was poorly defen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were very few cas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Map of England"/>
          <p:cNvPicPr/>
          <p:nvPr/>
        </p:nvPicPr>
        <p:blipFill>
          <a:blip r:embed="rId1"/>
          <a:stretch/>
        </p:blipFill>
        <p:spPr>
          <a:xfrm>
            <a:off x="395280" y="260280"/>
            <a:ext cx="410544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8" descr="peop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708280"/>
            <a:ext cx="476280" cy="81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peop0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94172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peop01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peop01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peop01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40000" y="508464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peop0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peop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58920" y="3645000"/>
            <a:ext cx="476280" cy="819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1"/>
          <p:cNvSpPr/>
          <p:nvPr/>
        </p:nvSpPr>
        <p:spPr>
          <a:xfrm>
            <a:off x="4932360" y="476280"/>
            <a:ext cx="3887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few people lived in the north and west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body lived i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the South of England was covered in forest and people lived in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English%2520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22100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4067280" y="4724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250920" y="465300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2268360" y="3213000"/>
            <a:ext cx="576360" cy="863640"/>
          </a:xfrm>
          <a:prstGeom prst="upArrow">
            <a:avLst>
              <a:gd name="adj1" fmla="val 50000"/>
              <a:gd name="adj2" fmla="val 374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2340000" y="580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strong-a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2"/>
          <p:cNvSpPr/>
          <p:nvPr/>
        </p:nvSpPr>
        <p:spPr>
          <a:xfrm>
            <a:off x="5580000" y="981000"/>
            <a:ext cx="2879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cat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strong-arm"/>
          <p:cNvPicPr/>
          <p:nvPr/>
        </p:nvPicPr>
        <p:blipFill>
          <a:blip r:embed="rId1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fr-norm"/>
          <p:cNvPicPr/>
          <p:nvPr/>
        </p:nvPicPr>
        <p:blipFill>
          <a:blip r:embed="rId2"/>
          <a:stretch/>
        </p:blipFill>
        <p:spPr>
          <a:xfrm>
            <a:off x="1116000" y="3716280"/>
            <a:ext cx="3168720" cy="20178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7"/>
          <p:cNvSpPr/>
          <p:nvPr/>
        </p:nvSpPr>
        <p:spPr>
          <a:xfrm>
            <a:off x="179280" y="4365720"/>
            <a:ext cx="898560" cy="576000"/>
          </a:xfrm>
          <a:prstGeom prst="rightArrow">
            <a:avLst>
              <a:gd name="adj1" fmla="val 50000"/>
              <a:gd name="adj2" fmla="val 39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4356000" y="4365720"/>
            <a:ext cx="935280" cy="576000"/>
          </a:xfrm>
          <a:prstGeom prst="leftArrow">
            <a:avLst>
              <a:gd name="adj1" fmla="val 50000"/>
              <a:gd name="adj2" fmla="val 405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2411280" y="5877000"/>
            <a:ext cx="574920" cy="720720"/>
          </a:xfrm>
          <a:prstGeom prst="upArrow">
            <a:avLst>
              <a:gd name="adj1" fmla="val 50000"/>
              <a:gd name="adj2" fmla="val 3134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2484360" y="278136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724360" y="836640"/>
            <a:ext cx="302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lived and train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51:36Z</dcterms:created>
  <dc:creator>cjames</dc:creator>
  <dc:description>England in 1060 hastings 1066</dc:description>
  <cp:keywords>England in 1060 hastings 1066</cp:keywords>
  <dc:language>en-US</dc:language>
  <cp:lastModifiedBy>LEGION</cp:lastModifiedBy>
  <dcterms:modified xsi:type="dcterms:W3CDTF">2017-07-03T10:10:37Z</dcterms:modified>
  <cp:revision>10</cp:revision>
  <dc:subject>England in 1060 hastings 1066</dc:subject>
  <dc:title>England in 1060 hastings 1066</dc:title>
</cp:coreProperties>
</file>